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14C-6BFE-48BF-9D24-68F2DEAD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9D5-43F8-487C-B518-6FF8DC78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33F0-23B3-49BA-BBA3-C6235078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E356-B71A-4022-9D60-E71EDED0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2EF-2BAC-4044-890F-DF7EE951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5F15-6D91-4577-A87B-2A137635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7F5-D82E-403D-86B7-D49B96DC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8D24-658B-4E2E-A5A2-B610CC7B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FD07-80B6-4BEF-9379-363D98B7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6E38-5D06-4203-AAD0-2D02DC46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D62-B83E-4784-9EE8-9881DFCC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6E55-B540-43A3-AEFC-98762ECA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6968-184B-4108-981E-DA9FBEB8C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ult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AdultBaseline9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AdultBaseline10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AdultBaseline1.jpg"/>
          <p:cNvPicPr/>
          <p:nvPr/>
        </p:nvPicPr>
        <p:blipFill>
          <a:blip r:embed="rId1"/>
          <a:stretch/>
        </p:blipFill>
        <p:spPr>
          <a:xfrm>
            <a:off x="766800" y="843120"/>
            <a:ext cx="76104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AdultBaseline2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dultBaseline3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AdultBaseline4.jpg"/>
          <p:cNvPicPr/>
          <p:nvPr/>
        </p:nvPicPr>
        <p:blipFill>
          <a:blip r:embed="rId1"/>
          <a:stretch/>
        </p:blipFill>
        <p:spPr>
          <a:xfrm>
            <a:off x="766800" y="809640"/>
            <a:ext cx="76104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AdultBaseline5.jpg"/>
          <p:cNvPicPr/>
          <p:nvPr/>
        </p:nvPicPr>
        <p:blipFill>
          <a:blip r:embed="rId1"/>
          <a:stretch/>
        </p:blipFill>
        <p:spPr>
          <a:xfrm>
            <a:off x="762120" y="824040"/>
            <a:ext cx="761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AdultBaseline6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AdultBaseline7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dultBaseline8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19:58Z</dcterms:created>
  <dc:creator>zcui</dc:creator>
  <dc:description/>
  <dc:language>en-US</dc:language>
  <cp:lastModifiedBy>rbalne</cp:lastModifiedBy>
  <dcterms:modified xsi:type="dcterms:W3CDTF">2009-08-12T13:56:23Z</dcterms:modified>
  <cp:revision>23</cp:revision>
  <dc:subject/>
  <dc:title>TRAC</dc:title>
</cp:coreProperties>
</file>